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D8A-88AF-489F-AC50-AB0F9704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865-2D8A-4F87-A246-8331AC1A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D82-BE8F-43A8-BF0E-298AA663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D10-B7A2-411C-B8AA-652635C3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9E4-0609-4303-BFDA-CBB1308A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72F-819B-4616-B4F8-8522B308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B4D-2D1B-41E2-8899-0AD134CE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A52-68C1-4B05-AF19-AE3B77F3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0F6-98DB-4DFD-892F-A2BD845F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4BC-4F0D-4346-85A6-CA25AE73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67A-FA80-4FB4-A2A2-33062F53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14D-9128-4867-BCEF-56CD3858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Ribbon131 Bd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FFB2-A198-4DE7-B261-9C8575A3E5BF}" type="slidenum">
              <a:rPr b="1" lang="es-ES" sz="1200" spc="-1" strike="noStrike">
                <a:solidFill>
                  <a:srgbClr val="898989"/>
                </a:solidFill>
                <a:latin typeface="Ribbon131 Bd B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39200" y="76320"/>
            <a:ext cx="966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¿ Qué te motiva a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      </a:t>
            </a: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cuidar tu SALUD ?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24000" y="2281320"/>
            <a:ext cx="10535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66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660066"/>
                </a:solidFill>
                <a:latin typeface="Ribbon131 Bd BT"/>
              </a:rPr>
              <a:t>Belleza?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660066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660066"/>
                </a:solidFill>
                <a:latin typeface="Ribbon131 Bd BT"/>
              </a:rPr>
              <a:t>Aceptación?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660066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660066"/>
                </a:solidFill>
                <a:latin typeface="Ribbon131 Bd BT"/>
              </a:rPr>
              <a:t>Libre de enfermedades?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660066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660066"/>
                </a:solidFill>
                <a:latin typeface="Ribbon131 Bd BT"/>
              </a:rPr>
              <a:t>Longevidad?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38800" y="71280"/>
            <a:ext cx="86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Recomendaciones: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39840" y="1271520"/>
            <a:ext cx="84056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buClr>
                <a:srgbClr val="99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996600"/>
                </a:solidFill>
                <a:latin typeface="Ribbon131 Bd BT"/>
              </a:rPr>
              <a:t>Haga el hábito correcto en la respiración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80000"/>
              </a:lnSpc>
              <a:buClr>
                <a:srgbClr val="99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996600"/>
                </a:solidFill>
                <a:latin typeface="Ribbon131 Bd BT"/>
              </a:rPr>
              <a:t>Casa, Iglesia y lugar de trabajo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996600"/>
                </a:solidFill>
                <a:latin typeface="Ribbon131 Bd BT"/>
              </a:rPr>
              <a:t>    </a:t>
            </a:r>
            <a:r>
              <a:rPr b="1" lang="es-ES" sz="5400" spc="-1" strike="noStrike">
                <a:solidFill>
                  <a:srgbClr val="996600"/>
                </a:solidFill>
                <a:latin typeface="Ribbon131 Bd BT"/>
              </a:rPr>
              <a:t>asegure: Ventilación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996600"/>
                </a:solidFill>
                <a:latin typeface="Ribbon131 Bd BT"/>
              </a:rPr>
              <a:t>                </a:t>
            </a:r>
            <a:r>
              <a:rPr b="1" lang="es-ES" sz="5400" spc="-1" strike="noStrike">
                <a:solidFill>
                  <a:srgbClr val="996600"/>
                </a:solidFill>
                <a:latin typeface="Ribbon131 Bd BT"/>
              </a:rPr>
              <a:t>Luz del sol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996600"/>
                </a:solidFill>
                <a:latin typeface="Ribbon131 Bd BT"/>
              </a:rPr>
              <a:t>                </a:t>
            </a:r>
            <a:r>
              <a:rPr b="1" lang="es-ES" sz="5400" spc="-1" strike="noStrike">
                <a:solidFill>
                  <a:srgbClr val="996600"/>
                </a:solidFill>
                <a:latin typeface="Ribbon131 Bd BT"/>
              </a:rPr>
              <a:t>Desagüe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996600"/>
                </a:solidFill>
                <a:latin typeface="Ribbon131 Bd BT"/>
              </a:rPr>
              <a:t>                </a:t>
            </a:r>
            <a:r>
              <a:rPr b="1" lang="es-ES" sz="5400" spc="-1" strike="noStrike">
                <a:solidFill>
                  <a:srgbClr val="996600"/>
                </a:solidFill>
                <a:latin typeface="Ribbon131 Bd BT"/>
              </a:rPr>
              <a:t>Limpieza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749600" y="182520"/>
            <a:ext cx="79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3.- Aseo Personal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11200" y="1382760"/>
            <a:ext cx="845676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80008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800080"/>
                </a:solidFill>
                <a:latin typeface="Ribbon131 Bd BT"/>
              </a:rPr>
              <a:t> </a:t>
            </a:r>
            <a:r>
              <a:rPr b="1" lang="es-ES" sz="6600" spc="-1" strike="noStrike">
                <a:solidFill>
                  <a:srgbClr val="800080"/>
                </a:solidFill>
                <a:latin typeface="Ribbon131 Bd BT"/>
              </a:rPr>
              <a:t>La Piel excreta impurezas.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buClr>
                <a:srgbClr val="80008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800080"/>
                </a:solidFill>
                <a:latin typeface="Ribbon131 Bd BT"/>
              </a:rPr>
              <a:t> </a:t>
            </a:r>
            <a:r>
              <a:rPr b="1" lang="es-ES" sz="6600" spc="-1" strike="noStrike">
                <a:solidFill>
                  <a:srgbClr val="800080"/>
                </a:solidFill>
                <a:latin typeface="Ribbon131 Bd BT"/>
              </a:rPr>
              <a:t>Las puede Reabsorber: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800080"/>
                </a:solidFill>
                <a:latin typeface="Ribbon131 Bd BT"/>
              </a:rPr>
              <a:t>       </a:t>
            </a:r>
            <a:r>
              <a:rPr b="1" lang="es-ES" sz="6600" spc="-1" strike="noStrike">
                <a:solidFill>
                  <a:srgbClr val="800080"/>
                </a:solidFill>
                <a:latin typeface="Ribbon131 Bd BT"/>
              </a:rPr>
              <a:t>-Acumulan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800080"/>
                </a:solidFill>
                <a:latin typeface="Ribbon131 Bd BT"/>
              </a:rPr>
              <a:t>       </a:t>
            </a:r>
            <a:r>
              <a:rPr b="1" lang="es-ES" sz="6600" spc="-1" strike="noStrike">
                <a:solidFill>
                  <a:srgbClr val="800080"/>
                </a:solidFill>
                <a:latin typeface="Ribbon131 Bd BT"/>
              </a:rPr>
              <a:t>-Ambiente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800080"/>
                </a:solidFill>
                <a:latin typeface="Ribbon131 Bd BT"/>
              </a:rPr>
              <a:t>       </a:t>
            </a:r>
            <a:r>
              <a:rPr b="1" lang="es-ES" sz="6600" spc="-1" strike="noStrike">
                <a:solidFill>
                  <a:srgbClr val="800080"/>
                </a:solidFill>
                <a:latin typeface="Ribbon131 Bd BT"/>
              </a:rPr>
              <a:t>-Ropa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67400" y="106200"/>
            <a:ext cx="86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Recomendaciones: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68360" y="1123920"/>
            <a:ext cx="8118360" cy="73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666633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6633"/>
                </a:solidFill>
                <a:latin typeface="Ribbon131 Bd BT"/>
              </a:rPr>
              <a:t>Baños frecuentes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buClr>
                <a:srgbClr val="666633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6633"/>
                </a:solidFill>
                <a:latin typeface="Ribbon131 Bd BT"/>
              </a:rPr>
              <a:t>Baños Temperatura de contraste: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6633"/>
                </a:solidFill>
                <a:latin typeface="Ribbon131 Bd BT"/>
              </a:rPr>
              <a:t>       </a:t>
            </a:r>
            <a:r>
              <a:rPr b="1" lang="es-ES" sz="5400" spc="-1" strike="noStrike">
                <a:solidFill>
                  <a:srgbClr val="666633"/>
                </a:solidFill>
                <a:latin typeface="Ribbon131 Bd BT"/>
              </a:rPr>
              <a:t>- Fortalece contra el frío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6633"/>
                </a:solidFill>
                <a:latin typeface="Ribbon131 Bd BT"/>
              </a:rPr>
              <a:t>       </a:t>
            </a:r>
            <a:r>
              <a:rPr b="1" lang="es-ES" sz="5400" spc="-1" strike="noStrike">
                <a:solidFill>
                  <a:srgbClr val="666633"/>
                </a:solidFill>
                <a:latin typeface="Ribbon131 Bd BT"/>
              </a:rPr>
              <a:t>- Estimula la circulación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6633"/>
                </a:solidFill>
                <a:latin typeface="Ribbon131 Bd BT"/>
              </a:rPr>
              <a:t>       </a:t>
            </a:r>
            <a:r>
              <a:rPr b="1" lang="es-ES" sz="5400" spc="-1" strike="noStrike">
                <a:solidFill>
                  <a:srgbClr val="666633"/>
                </a:solidFill>
                <a:latin typeface="Ribbon131 Bd BT"/>
              </a:rPr>
              <a:t>-Músculos más flexibles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6633"/>
                </a:solidFill>
                <a:latin typeface="Ribbon131 Bd BT"/>
              </a:rPr>
              <a:t>       </a:t>
            </a:r>
            <a:r>
              <a:rPr b="1" lang="es-ES" sz="5400" spc="-1" strike="noStrike">
                <a:solidFill>
                  <a:srgbClr val="666633"/>
                </a:solidFill>
                <a:latin typeface="Ribbon131 Bd BT"/>
              </a:rPr>
              <a:t>- Inteligencia más aguda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327320" y="181080"/>
            <a:ext cx="474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Ribbon131 Bd BT"/>
              </a:rPr>
              <a:t>Y  más...</a:t>
            </a:r>
            <a:endParaRPr b="1" lang="en-US" sz="88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826920" y="1413000"/>
            <a:ext cx="69519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666633"/>
                </a:solidFill>
                <a:latin typeface="Ribbon131 Bd BT"/>
              </a:rPr>
              <a:t>       </a:t>
            </a:r>
            <a:r>
              <a:rPr b="1" lang="es-ES" sz="6600" spc="-1" strike="noStrike">
                <a:solidFill>
                  <a:srgbClr val="666633"/>
                </a:solidFill>
                <a:latin typeface="Ribbon131 Bd BT"/>
              </a:rPr>
              <a:t>- Calma los nervios.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666633"/>
                </a:solidFill>
                <a:latin typeface="Ribbon131 Bd BT"/>
              </a:rPr>
              <a:t>       </a:t>
            </a:r>
            <a:r>
              <a:rPr b="1" lang="es-ES" sz="6600" spc="-1" strike="noStrike">
                <a:solidFill>
                  <a:srgbClr val="666633"/>
                </a:solidFill>
                <a:latin typeface="Ribbon131 Bd BT"/>
              </a:rPr>
              <a:t>- Favorece la digestión.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191960" y="223920"/>
            <a:ext cx="953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Principio Fisiológico: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55640" y="1424160"/>
            <a:ext cx="8129520" cy="60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3300"/>
                </a:solidFill>
                <a:latin typeface="Ribbon131 Bd BT"/>
              </a:rPr>
              <a:t>Todo órgano de eliminación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3300"/>
                </a:solidFill>
                <a:latin typeface="Ribbon131 Bd BT"/>
              </a:rPr>
              <a:t>con su función deficiente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3300"/>
                </a:solidFill>
                <a:latin typeface="Ribbon131 Bd BT"/>
              </a:rPr>
              <a:t>o nula,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3300"/>
                </a:solidFill>
                <a:latin typeface="Ribbon131 Bd BT"/>
              </a:rPr>
              <a:t>sobrecargará a los otros órganos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3300"/>
                </a:solidFill>
                <a:latin typeface="Ribbon131 Bd BT"/>
              </a:rPr>
              <a:t>excretores..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3300"/>
                </a:solidFill>
                <a:latin typeface="Ribbon131 Bd BT"/>
              </a:rPr>
              <a:t>Autointoxicación</a:t>
            </a:r>
            <a:r>
              <a:rPr b="1" lang="es-ES" sz="6000" spc="-1" strike="noStrike">
                <a:solidFill>
                  <a:srgbClr val="cc3300"/>
                </a:solidFill>
                <a:latin typeface="Ribbon131 Bd BT"/>
              </a:rPr>
              <a:t>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-185040" y="260280"/>
            <a:ext cx="9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Órganos  Excretores: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60240" y="1290600"/>
            <a:ext cx="81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8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800080"/>
                </a:solidFill>
                <a:latin typeface="Ribbon131 Bd BT"/>
              </a:rPr>
              <a:t>Piel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80008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800080"/>
                </a:solidFill>
                <a:latin typeface="Ribbon131 Bd BT"/>
              </a:rPr>
              <a:t>Pulmones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80008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800080"/>
                </a:solidFill>
                <a:latin typeface="Ribbon131 Bd BT"/>
              </a:rPr>
              <a:t>Riñones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80008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800080"/>
                </a:solidFill>
                <a:latin typeface="Ribbon131 Bd BT"/>
              </a:rPr>
              <a:t>Intestino Grueso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00320" y="130320"/>
            <a:ext cx="811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Ribbon131 Bd BT"/>
              </a:rPr>
              <a:t>La Enfermedad:</a:t>
            </a:r>
            <a:endParaRPr b="1" lang="en-US" sz="80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26920" y="1916280"/>
            <a:ext cx="7693200" cy="69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800080"/>
                </a:solidFill>
                <a:latin typeface="Ribbon131 Bd BT"/>
              </a:rPr>
              <a:t>Es un esfuerzo de la naturaleza</a:t>
            </a:r>
            <a:endParaRPr b="1" lang="en-US" sz="48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800080"/>
                </a:solidFill>
                <a:latin typeface="Ribbon131 Bd BT"/>
              </a:rPr>
              <a:t>para librar al organismo de las</a:t>
            </a:r>
            <a:endParaRPr b="1" lang="en-US" sz="48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800080"/>
                </a:solidFill>
                <a:latin typeface="Ribbon131 Bd BT"/>
              </a:rPr>
              <a:t>condiciones resultantes de una</a:t>
            </a:r>
            <a:endParaRPr b="1" lang="en-US" sz="48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800080"/>
                </a:solidFill>
                <a:latin typeface="Ribbon131 Bd BT"/>
              </a:rPr>
              <a:t>violación de las</a:t>
            </a:r>
            <a:r>
              <a:rPr b="1" i="1" lang="es-ES" sz="4800" spc="-1" strike="noStrike">
                <a:solidFill>
                  <a:srgbClr val="800080"/>
                </a:solidFill>
                <a:latin typeface="Ribbon131 Bd BT"/>
              </a:rPr>
              <a:t> Leyes</a:t>
            </a:r>
            <a:r>
              <a:rPr b="1" lang="es-ES" sz="4800" spc="-1" strike="noStrike">
                <a:solidFill>
                  <a:srgbClr val="800080"/>
                </a:solidFill>
                <a:latin typeface="Ribbon131 Bd BT"/>
              </a:rPr>
              <a:t> de la</a:t>
            </a:r>
            <a:endParaRPr b="1" lang="en-US" sz="48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800080"/>
                </a:solidFill>
                <a:latin typeface="Ribbon131 Bd BT"/>
              </a:rPr>
              <a:t>Salud </a:t>
            </a:r>
            <a:r>
              <a:rPr b="1" lang="es-ES" sz="6600" spc="-1" strike="noStrike">
                <a:solidFill>
                  <a:srgbClr val="800080"/>
                </a:solidFill>
                <a:latin typeface="Ribbon131 Bd BT"/>
              </a:rPr>
              <a:t>...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-69480" y="96840"/>
            <a:ext cx="94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¿Qué se debe hacer?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49160" y="1297080"/>
            <a:ext cx="7804440" cy="59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buClr>
                <a:srgbClr val="00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00"/>
                </a:solidFill>
                <a:latin typeface="Ribbon131 Bd BT"/>
              </a:rPr>
              <a:t>Indagar la causa.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80000"/>
              </a:lnSpc>
              <a:buClr>
                <a:srgbClr val="00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00"/>
                </a:solidFill>
                <a:latin typeface="Ribbon131 Bd BT"/>
              </a:rPr>
              <a:t>Modificarse condiciones antihig.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80000"/>
              </a:lnSpc>
              <a:buClr>
                <a:srgbClr val="00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00"/>
                </a:solidFill>
                <a:latin typeface="Ribbon131 Bd BT"/>
              </a:rPr>
              <a:t>Corregir hábitos erróneos.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80000"/>
              </a:lnSpc>
              <a:buClr>
                <a:srgbClr val="00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00"/>
                </a:solidFill>
                <a:latin typeface="Ribbon131 Bd BT"/>
              </a:rPr>
              <a:t>Ayudar a eliminar las impurezas.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80000"/>
              </a:lnSpc>
              <a:buClr>
                <a:srgbClr val="00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00"/>
                </a:solidFill>
                <a:latin typeface="Ribbon131 Bd BT"/>
              </a:rPr>
              <a:t>Restablecer las condiciones normales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00"/>
                </a:solidFill>
                <a:latin typeface="Ribbon131 Bd BT"/>
              </a:rPr>
              <a:t>   </a:t>
            </a:r>
            <a:r>
              <a:rPr b="1" lang="es-ES" sz="4400" spc="-1" strike="noStrike">
                <a:solidFill>
                  <a:srgbClr val="006600"/>
                </a:solidFill>
                <a:latin typeface="Ribbon131 Bd BT"/>
              </a:rPr>
              <a:t>del organismo.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00"/>
                </a:solidFill>
                <a:latin typeface="Ribbon131 Bd BT"/>
              </a:rPr>
              <a:t>                                   </a:t>
            </a:r>
            <a:r>
              <a:rPr b="1" lang="es-ES" sz="2400" spc="-1" strike="noStrike">
                <a:solidFill>
                  <a:srgbClr val="006600"/>
                </a:solidFill>
                <a:latin typeface="Ribbon131 Bd BT"/>
              </a:rPr>
              <a:t>M.C  89</a:t>
            </a:r>
            <a:r>
              <a:rPr b="1" lang="es-ES" sz="4400" spc="-1" strike="noStrike">
                <a:solidFill>
                  <a:srgbClr val="006600"/>
                </a:solidFill>
                <a:latin typeface="Ribbon131 Bd BT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00000" y="189000"/>
            <a:ext cx="744696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Ribbon131 Bd BT"/>
              </a:rPr>
              <a:t>El Aire puro,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Ribbon131 Bd BT"/>
              </a:rPr>
              <a:t>El Sol,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Ribbon131 Bd BT"/>
              </a:rPr>
              <a:t>La Abstinencia,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Ribbon131 Bd BT"/>
              </a:rPr>
              <a:t>El Descanso,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Ribbon131 Bd BT"/>
              </a:rPr>
              <a:t>El Ejercicio,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Ribbon131 Bd BT"/>
              </a:rPr>
              <a:t>Alimentación conveniente,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Ribbon131 Bd BT"/>
              </a:rPr>
              <a:t>El Agua y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Ribbon131 Bd BT"/>
              </a:rPr>
              <a:t>Confianza en el Poder Divino ...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Ribbon131 Bd BT"/>
              </a:rPr>
              <a:t>            </a:t>
            </a:r>
            <a:r>
              <a:rPr b="1" lang="es-ES" sz="4400" spc="-1" strike="noStrike">
                <a:solidFill>
                  <a:srgbClr val="000000"/>
                </a:solidFill>
                <a:latin typeface="Ribbon131 Bd BT"/>
              </a:rPr>
              <a:t>son los Verdaderos Remedios.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Ribbon131 Bd BT"/>
              </a:rPr>
              <a:t>    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Ribbon131 Bd BT"/>
              </a:rPr>
              <a:t>M.C 89</a:t>
            </a:r>
            <a:endParaRPr b="1" lang="en-US" sz="28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06200" y="762120"/>
            <a:ext cx="88585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660066"/>
                </a:solidFill>
                <a:latin typeface="Ribbon131 Bd BT"/>
              </a:rPr>
              <a:t>“</a:t>
            </a:r>
            <a:r>
              <a:rPr b="1" lang="es-ES" sz="6000" spc="-1" strike="noStrike">
                <a:solidFill>
                  <a:srgbClr val="660066"/>
                </a:solidFill>
                <a:latin typeface="Ribbon131 Bd BT"/>
              </a:rPr>
              <a:t>El conocimiento de que el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660066"/>
                </a:solidFill>
                <a:latin typeface="Ribbon131 Bd BT"/>
              </a:rPr>
              <a:t>hombre ha de ser templo de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660066"/>
                </a:solidFill>
                <a:latin typeface="Ribbon131 Bd BT"/>
              </a:rPr>
              <a:t>Dios, para revelar su gloria,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660066"/>
                </a:solidFill>
                <a:latin typeface="Ribbon131 Bd BT"/>
              </a:rPr>
              <a:t>debe ser el mayor incentivo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660066"/>
                </a:solidFill>
                <a:latin typeface="Ribbon131 Bd BT"/>
              </a:rPr>
              <a:t>para el cuidado y desarrollo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660066"/>
                </a:solidFill>
                <a:latin typeface="Ribbon131 Bd BT"/>
              </a:rPr>
              <a:t>de las facultades físicas.” 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929920" y="548640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00"/>
                </a:solidFill>
                <a:latin typeface="Ribbon131 Bd BT"/>
              </a:rPr>
              <a:t>M.C.  206</a:t>
            </a:r>
            <a:endParaRPr b="1" lang="en-US" sz="44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-544680" y="1413000"/>
            <a:ext cx="1060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Pilares Fundamentales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para tener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Buena  SALUD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-501480" y="266760"/>
            <a:ext cx="970092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1.- </a:t>
            </a:r>
            <a:r>
              <a:rPr b="1" lang="es-ES" sz="6000" spc="-1" strike="noStrike">
                <a:solidFill>
                  <a:srgbClr val="000000"/>
                </a:solidFill>
                <a:latin typeface="Ribbon131 Bd BT"/>
              </a:rPr>
              <a:t>Adecuada Circulación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Ribbon131 Bd BT"/>
              </a:rPr>
              <a:t>de la sangre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-479160" y="1798560"/>
            <a:ext cx="8780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Corriente de la vida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Repara los desgastes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Lleva los nutrientes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Purifica al llevar el O2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Lleva desechos-órganos 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excretores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-470520" y="0"/>
            <a:ext cx="101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Enemigos Circulación: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-855000" y="907920"/>
            <a:ext cx="10904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 </a:t>
            </a: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Ropas apretadas (torniquete)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Extremidades descubiertas 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    </a:t>
            </a: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(vasoconstricción)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Aumento viscosidad.(Grasas)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Enf. Corazón(ICC)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00"/>
                </a:solidFill>
                <a:latin typeface="Ribbon131 Bd BT"/>
              </a:rPr>
              <a:t>Placas  de Arteromas (luz)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45480" y="376200"/>
            <a:ext cx="867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Resultado: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              </a:t>
            </a: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Congestión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12120" y="2730600"/>
            <a:ext cx="969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Dolor de Cabeza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Tos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Palpitaciones Cardiacas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Indigestión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-513000" y="387360"/>
            <a:ext cx="968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Ribbon131 Bd BT"/>
              </a:rPr>
              <a:t>2.- Adecuada Respiración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-644760" y="2205000"/>
            <a:ext cx="100954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80008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800080"/>
                </a:solidFill>
                <a:latin typeface="Ribbon131 Bd BT"/>
              </a:rPr>
              <a:t>Da buena sangre</a:t>
            </a:r>
            <a:r>
              <a:rPr b="1" lang="es-ES" sz="3600" spc="-1" strike="noStrike">
                <a:solidFill>
                  <a:srgbClr val="800080"/>
                </a:solidFill>
                <a:latin typeface="Ribbon131 Bd BT"/>
              </a:rPr>
              <a:t>.(O2 y Co2)</a:t>
            </a:r>
            <a:endParaRPr b="1" lang="en-US" sz="36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buClr>
                <a:srgbClr val="80008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800080"/>
                </a:solidFill>
                <a:latin typeface="Ribbon131 Bd BT"/>
              </a:rPr>
              <a:t>Inspiraciones y espiraciones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800080"/>
                </a:solidFill>
                <a:latin typeface="Ribbon131 Bd BT"/>
              </a:rPr>
              <a:t>    </a:t>
            </a:r>
            <a:r>
              <a:rPr b="1" lang="es-ES" sz="5400" spc="-1" strike="noStrike">
                <a:solidFill>
                  <a:srgbClr val="800080"/>
                </a:solidFill>
                <a:latin typeface="Ribbon131 Bd BT"/>
              </a:rPr>
              <a:t>hondas.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buClr>
                <a:srgbClr val="80008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800080"/>
                </a:solidFill>
                <a:latin typeface="Ribbon131 Bd BT"/>
              </a:rPr>
              <a:t>Libertad a los Pulmones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800080"/>
                </a:solidFill>
                <a:latin typeface="Ribbon131 Bd BT"/>
              </a:rPr>
              <a:t>   </a:t>
            </a:r>
            <a:r>
              <a:rPr b="1" lang="es-ES" sz="5400" spc="-1" strike="noStrike">
                <a:solidFill>
                  <a:srgbClr val="800080"/>
                </a:solidFill>
                <a:latin typeface="Ribbon131 Bd BT"/>
              </a:rPr>
              <a:t>(moda, ropas, postura)</a:t>
            </a:r>
            <a:endParaRPr b="1" lang="en-US" sz="54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266120" y="299880"/>
            <a:ext cx="54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Resultados: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-765720" y="1787400"/>
            <a:ext cx="10802880" cy="37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336600"/>
                </a:solidFill>
                <a:latin typeface="Ribbon131 Bd BT"/>
              </a:rPr>
              <a:t>Calma los nervios.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90000"/>
              </a:lnSpc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336600"/>
                </a:solidFill>
                <a:latin typeface="Ribbon131 Bd BT"/>
              </a:rPr>
              <a:t>Estimula el apetito.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90000"/>
              </a:lnSpc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336600"/>
                </a:solidFill>
                <a:latin typeface="Ribbon131 Bd BT"/>
              </a:rPr>
              <a:t>Mejora la digestión.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90000"/>
              </a:lnSpc>
              <a:buClr>
                <a:srgbClr val="336600"/>
              </a:buClr>
              <a:buFont typeface="Ribbon131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336600"/>
                </a:solidFill>
                <a:latin typeface="Ribbon131 Bd BT"/>
              </a:rPr>
              <a:t>Sueño sano y reparador.</a:t>
            </a:r>
            <a:endParaRPr b="1" lang="en-US" sz="66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68480" y="299880"/>
            <a:ext cx="113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Ribbon131 Bd BT"/>
              </a:rPr>
              <a:t>Respiración Incorrecta...</a:t>
            </a:r>
            <a:endParaRPr b="1" lang="en-US" sz="7200" spc="-1" strike="noStrike">
              <a:solidFill>
                <a:srgbClr val="000000"/>
              </a:solidFill>
              <a:latin typeface="Ribbon131 Bd BT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-1129320" y="1730520"/>
            <a:ext cx="11671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buClr>
                <a:srgbClr val="33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 </a:t>
            </a: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Hábito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70000"/>
              </a:lnSpc>
              <a:buClr>
                <a:srgbClr val="33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 </a:t>
            </a: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Autointoxicación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70000"/>
              </a:lnSpc>
              <a:buClr>
                <a:srgbClr val="33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 </a:t>
            </a: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Piel cetrina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70000"/>
              </a:lnSpc>
              <a:buClr>
                <a:srgbClr val="33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 </a:t>
            </a: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Digestión lenta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70000"/>
              </a:lnSpc>
              <a:buClr>
                <a:srgbClr val="33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 </a:t>
            </a: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Deprime el corazón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70000"/>
              </a:lnSpc>
              <a:buClr>
                <a:srgbClr val="33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 </a:t>
            </a: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Nubla el Cerebro.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  <a:p>
            <a:pPr marL="457200" indent="-457200">
              <a:lnSpc>
                <a:spcPct val="70000"/>
              </a:lnSpc>
              <a:buClr>
                <a:srgbClr val="336600"/>
              </a:buClr>
              <a:buFont typeface="Ribbon131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 </a:t>
            </a:r>
            <a:r>
              <a:rPr b="1" lang="es-ES" sz="6000" spc="-1" strike="noStrike">
                <a:solidFill>
                  <a:srgbClr val="336600"/>
                </a:solidFill>
                <a:latin typeface="Ribbon131 Bd BT"/>
              </a:rPr>
              <a:t>Expuestos a enfermedades. </a:t>
            </a:r>
            <a:endParaRPr b="1" lang="en-US" sz="6000" spc="-1" strike="noStrike">
              <a:solidFill>
                <a:srgbClr val="000000"/>
              </a:solidFill>
              <a:latin typeface="Ribbon131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06:15Z</dcterms:created>
  <dc:creator>otaola</dc:creator>
  <dc:description/>
  <dc:language>en-US</dc:language>
  <cp:lastModifiedBy>MIPES COMUNI UVO</cp:lastModifiedBy>
  <dcterms:modified xsi:type="dcterms:W3CDTF">2011-10-14T16:40:00Z</dcterms:modified>
  <cp:revision>24</cp:revision>
  <dc:subject/>
  <dc:title>Presentación de PowerPoint</dc:title>
</cp:coreProperties>
</file>